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007-D2F6-4BB0-B98A-1D434565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2BA-F37F-4FB0-87EC-EA3A3D64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EEA-B189-4FAC-8961-39E15733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24E-609F-4FBC-8CD2-9E61500B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340-249D-4B9B-941A-DE3844ED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B691-822D-45CD-A7E0-322EA9D6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80B-ECF0-4AE6-814E-18C74E20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D6C-D3BA-469F-9398-8CFD74DD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B68-8996-4AAA-B891-A92B6305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283-0D07-4F38-993B-E5335FAF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37F-BB54-4C54-93BA-E79583FC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35A5-105F-403A-B56A-696C9424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1A64-851C-4444-9E85-84F303FDC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pirit%20of%20god" descr=""/>
          <p:cNvPicPr/>
          <p:nvPr/>
        </p:nvPicPr>
        <p:blipFill>
          <a:blip r:embed="rId1"/>
          <a:stretch/>
        </p:blipFill>
        <p:spPr>
          <a:xfrm>
            <a:off x="3024360" y="0"/>
            <a:ext cx="611964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81952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هلم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 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أغمرني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بحضورك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جددني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واجعلني أحيا بك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ird012" descr=""/>
          <p:cNvPicPr/>
          <p:nvPr/>
        </p:nvPicPr>
        <p:blipFill>
          <a:blip r:embed="rId2"/>
          <a:stretch/>
        </p:blipFill>
        <p:spPr>
          <a:xfrm>
            <a:off x="0" y="4514760"/>
            <a:ext cx="2971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457200"/>
            <a:ext cx="2666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لبي صحراءٌ دام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فة لا ماءَ في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بنا ماءَ الحيا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فيضُ فيها ويُحييه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pirit-jesus" descr=""/>
          <p:cNvPicPr/>
          <p:nvPr/>
        </p:nvPicPr>
        <p:blipFill>
          <a:blip r:embed="rId1"/>
          <a:stretch/>
        </p:blipFill>
        <p:spPr>
          <a:xfrm>
            <a:off x="0" y="-6840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0"/>
            <a:ext cx="76201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Arabic Transparent"/>
              </a:rPr>
              <a:t>قلبي صحراءٌ دامسة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Arabic Transparent"/>
              </a:rPr>
              <a:t>جافة لا ماءَ فيه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Arabic Transparent"/>
              </a:rPr>
              <a:t>هبنا ماءَ الحياة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فيفيضُ فيها ويُحييها</a:t>
            </a:r>
            <a:r>
              <a:rPr b="0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pirit%20of%20god" descr=""/>
          <p:cNvPicPr/>
          <p:nvPr/>
        </p:nvPicPr>
        <p:blipFill>
          <a:blip r:embed="rId1"/>
          <a:stretch/>
        </p:blipFill>
        <p:spPr>
          <a:xfrm>
            <a:off x="3024360" y="0"/>
            <a:ext cx="6119640" cy="7086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281952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هلم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 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أغمرني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بحضورك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جددني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واجعلني أحيا بك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ird012" descr=""/>
          <p:cNvPicPr/>
          <p:nvPr/>
        </p:nvPicPr>
        <p:blipFill>
          <a:blip r:embed="rId2"/>
          <a:stretch/>
        </p:blipFill>
        <p:spPr>
          <a:xfrm>
            <a:off x="0" y="4514760"/>
            <a:ext cx="2971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rayboy1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3124080" cy="90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تعالَ في عمقِ يأسي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يها الروحُ المعز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حررني جددني واملأني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أتَهَلّلَ بذِكر الرب</a:t>
            </a:r>
            <a:r>
              <a:rPr b="0" lang="ar-SA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flyingdove" descr=""/>
          <p:cNvPicPr/>
          <p:nvPr/>
        </p:nvPicPr>
        <p:blipFill>
          <a:blip r:embed="rId2"/>
          <a:stretch/>
        </p:blipFill>
        <p:spPr>
          <a:xfrm>
            <a:off x="5943600" y="135000"/>
            <a:ext cx="28954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pirit%20of%20god" descr=""/>
          <p:cNvPicPr/>
          <p:nvPr/>
        </p:nvPicPr>
        <p:blipFill>
          <a:blip r:embed="rId1"/>
          <a:stretch/>
        </p:blipFill>
        <p:spPr>
          <a:xfrm>
            <a:off x="3024360" y="0"/>
            <a:ext cx="6119640" cy="7086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281952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هلم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 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أغمرني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بحضورك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جددني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واجعلني أحيا بك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ird012" descr=""/>
          <p:cNvPicPr/>
          <p:nvPr/>
        </p:nvPicPr>
        <p:blipFill>
          <a:blip r:embed="rId2"/>
          <a:stretch/>
        </p:blipFill>
        <p:spPr>
          <a:xfrm>
            <a:off x="0" y="4514760"/>
            <a:ext cx="2971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pirit-g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010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3352680" cy="71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ستسلمُ بين يديك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ا روحَ الله الح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م وانفح في روح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أُعلنْ أن يسوعَ حي</a:t>
            </a:r>
            <a:r>
              <a:rPr b="0" lang="ar-SA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9:00:43Z</dcterms:created>
  <dc:creator>SUZANNE.MD</dc:creator>
  <dc:description/>
  <dc:language>en-US</dc:language>
  <cp:lastModifiedBy>SUZANNE.MD</cp:lastModifiedBy>
  <dcterms:modified xsi:type="dcterms:W3CDTF">2003-05-22T09:35:26Z</dcterms:modified>
  <cp:revision>1</cp:revision>
  <dc:subject/>
  <dc:title>PowerPoint Presentation</dc:title>
</cp:coreProperties>
</file>